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996-33F5-41DD-8F13-972D159F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202-EC1C-4AAF-8C9E-B23E721A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DD3A-FF48-4D51-A252-C7E331CF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6AB6-2E15-434D-B4EC-C842C265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's wrong with these pictu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areful reading of the whole article (buried several pages into the paper) reveals a different stor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The ranking graph covers an 11 year period, the tuition graph 35 years, yet they are shown simultaneously (the same apparent width) on the same horizontal "scale"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The vertical scale for tuition and ranking could not possibly have common units, but the ranking graph is placed under the tuition graph creating the impression that cost exceeds qual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he differing time units are cleverly disguised by printing them rotated 90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And here is the masterstroke: the sharp "drop" in the ranking graph over the past few years actually represents the fact that Cornell's rank has IMPROVED from 15th TO 6th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5C9-AF51-44CD-8AEB-8AB3777C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A2C-DADC-46FD-A643-9F957BC1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76C-3B7F-4A3A-87B5-938AF89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522-41F0-4573-943C-879131FD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EE3-4F45-4CD6-A058-C9F12EA2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7FE-4838-4CBB-B3FC-39E07EA0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FC13-0BAD-4AD3-B68E-F0BE9F12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2F00-EA41-454A-A964-81783A2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8D92-A666-497F-8E3A-70717687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20FC-10F7-472F-A57A-9D94DAC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3D8E-4104-4AC0-B986-49F8883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4F4-C8A2-4B6E-906C-3AD967A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32F-AB6A-4627-81BA-8BD7600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3E7-F6AC-452B-8471-9600DEA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136-6410-453E-9AF0-7F4C0E0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4586-9F02-466C-8920-A99F84B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C16-2C4D-43F8-9703-7BE6571B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8C4B-97A0-4904-99D9-5818E1A0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3677-7E61-4C78-9B8F-A7FDA6EC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6D45-9CB2-4FDF-BE63-7C0F2CCF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37EE-6CC2-4E00-A438-2E00716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AA84-7026-4003-93F0-B927B039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A80F-3ADA-401A-ACCB-AD2ED366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978-FAED-459C-A8C1-39E38BF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FC51-22A7-4EA4-B4D3-5A76EB75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2B59-5DB5-48EF-8E62-622341C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271C-D06D-4AF2-B76B-213C283F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3EDC-CF2B-4FE3-8062-3092860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8B87-FE42-42A3-840C-4FA89CD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EAF7-E080-47E8-9AB7-288A4B29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1585-C358-4857-B851-D355D459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C2E-3E6B-416D-A95C-9BC039AD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A0B-0866-4DC3-8CDC-F8894FA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91B-851F-48C5-B01E-E9EB9DA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9A1-396E-4B63-B3C1-3F8FF9B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A2E-8D44-42C7-9DCE-5ACAD12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2D0-269A-41B5-B5E6-9672C44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759-4BA2-46B8-B9D0-8726E9D7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CC4-54EE-4A0C-A83D-181A2C6D00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51C-A5CD-434B-9DD3-ACF02F6A64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ActivityDetail.aspx?ID=16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29051157128036595"/>
          <p:cNvPicPr/>
          <p:nvPr/>
        </p:nvPicPr>
        <p:blipFill>
          <a:blip r:embed="rId1"/>
          <a:stretch/>
        </p:blipFill>
        <p:spPr>
          <a:xfrm>
            <a:off x="1677960" y="152388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205560" y="304920"/>
            <a:ext cx="87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 In The Science Classroo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82640" y="1295280"/>
            <a:ext cx="5800680" cy="5315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7"/>
          <p:cNvSpPr/>
          <p:nvPr/>
        </p:nvSpPr>
        <p:spPr>
          <a:xfrm>
            <a:off x="3581280" y="2525760"/>
            <a:ext cx="33958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8"/>
          <p:cNvGrpSpPr/>
          <p:nvPr/>
        </p:nvGrpSpPr>
        <p:grpSpPr>
          <a:xfrm>
            <a:off x="3886200" y="3068640"/>
            <a:ext cx="2046240" cy="1725120"/>
            <a:chOff x="3886200" y="3068640"/>
            <a:chExt cx="2046240" cy="1725120"/>
          </a:xfrm>
        </p:grpSpPr>
        <p:sp>
          <p:nvSpPr>
            <p:cNvPr id="159" name="Straight Connector 2"/>
            <p:cNvSpPr/>
            <p:nvPr/>
          </p:nvSpPr>
          <p:spPr>
            <a:xfrm flipV="1">
              <a:off x="3886200" y="4441320"/>
              <a:ext cx="82692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13"/>
            <p:cNvSpPr/>
            <p:nvPr/>
          </p:nvSpPr>
          <p:spPr>
            <a:xfrm flipV="1">
              <a:off x="4964040" y="3068640"/>
              <a:ext cx="96840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12"/>
            <p:cNvSpPr/>
            <p:nvPr/>
          </p:nvSpPr>
          <p:spPr>
            <a:xfrm flipH="1">
              <a:off x="4712760" y="3497040"/>
              <a:ext cx="252360" cy="9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"/>
          <p:cNvGrpSpPr/>
          <p:nvPr/>
        </p:nvGrpSpPr>
        <p:grpSpPr>
          <a:xfrm>
            <a:off x="3809880" y="2992320"/>
            <a:ext cx="2198880" cy="1878120"/>
            <a:chOff x="3809880" y="2992320"/>
            <a:chExt cx="2198880" cy="1878120"/>
          </a:xfrm>
        </p:grpSpPr>
        <p:sp>
          <p:nvSpPr>
            <p:cNvPr id="163" name="Oval 1"/>
            <p:cNvSpPr/>
            <p:nvPr/>
          </p:nvSpPr>
          <p:spPr>
            <a:xfrm>
              <a:off x="5856480" y="299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889520" y="3481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4637160" y="4365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3809880" y="4718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Straight Connector 5"/>
          <p:cNvSpPr/>
          <p:nvPr/>
        </p:nvSpPr>
        <p:spPr>
          <a:xfrm flipV="1">
            <a:off x="3867120" y="3030480"/>
            <a:ext cx="2122560" cy="17258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789440" y="1407960"/>
            <a:ext cx="19810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necting the d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reating Useful Graph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520" y="1600200"/>
            <a:ext cx="678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ype of graph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oice for x and y ax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is labels AND uni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al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Aft>
                <a:spcPts val="6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formi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Aft>
                <a:spcPts val="60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ace use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ough points to draw a line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e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e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 Chart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are parts, or percents, of a who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6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ie Chart vs. Bar 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113440" y="1635120"/>
            <a:ext cx="3657600" cy="427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12128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5"/>
          <p:cNvSpPr/>
          <p:nvPr/>
        </p:nvSpPr>
        <p:spPr>
          <a:xfrm>
            <a:off x="4800600" y="1635120"/>
            <a:ext cx="0" cy="4079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3886200" y="380880"/>
            <a:ext cx="4648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st Pie Chart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ox-news-piechart"/>
          <p:cNvPicPr/>
          <p:nvPr/>
        </p:nvPicPr>
        <p:blipFill>
          <a:blip r:embed="rId1"/>
          <a:stretch/>
        </p:blipFill>
        <p:spPr>
          <a:xfrm>
            <a:off x="1219320" y="1447920"/>
            <a:ext cx="6562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he Case of the Missing Workers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ul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measur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we analyze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141px-Ulna_ant"/>
          <p:cNvPicPr/>
          <p:nvPr/>
        </p:nvPicPr>
        <p:blipFill>
          <a:blip r:embed="rId1"/>
          <a:stretch/>
        </p:blipFill>
        <p:spPr>
          <a:xfrm>
            <a:off x="7620120" y="838080"/>
            <a:ext cx="1342800" cy="570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A4ulna"/>
          <p:cNvPicPr/>
          <p:nvPr/>
        </p:nvPicPr>
        <p:blipFill>
          <a:blip r:embed="rId2"/>
          <a:stretch/>
        </p:blipFill>
        <p:spPr>
          <a:xfrm>
            <a:off x="4648320" y="1523880"/>
            <a:ext cx="244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unny-dog-pictures-a-dog-used-to-the-metric-system-mispercieves-burger-size"/>
          <p:cNvPicPr/>
          <p:nvPr/>
        </p:nvPicPr>
        <p:blipFill>
          <a:blip r:embed="rId1"/>
          <a:stretch/>
        </p:blipFill>
        <p:spPr>
          <a:xfrm>
            <a:off x="1009800" y="1066680"/>
            <a:ext cx="7092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 Difficulties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 is not necessaril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frie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Graphing</a:t>
            </a:r>
            <a:endParaRPr b="1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raph Interpretation Problems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Graph vs.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lope vs. heigh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nnect from data tabl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t Graphing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ithaca1"/>
          <p:cNvPicPr/>
          <p:nvPr/>
        </p:nvPicPr>
        <p:blipFill>
          <a:blip r:embed="rId1"/>
          <a:stretch/>
        </p:blipFill>
        <p:spPr>
          <a:xfrm>
            <a:off x="380880" y="1606680"/>
            <a:ext cx="4023000" cy="5029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thaca2"/>
          <p:cNvPicPr/>
          <p:nvPr/>
        </p:nvPicPr>
        <p:blipFill>
          <a:blip r:embed="rId2"/>
          <a:stretch/>
        </p:blipFill>
        <p:spPr>
          <a:xfrm>
            <a:off x="4873680" y="152280"/>
            <a:ext cx="4083120" cy="6705720"/>
          </a:xfrm>
          <a:prstGeom prst="rect">
            <a:avLst/>
          </a:prstGeom>
          <a:ln w="0">
            <a:noFill/>
          </a:ln>
        </p:spPr>
      </p:pic>
      <p:sp>
        <p:nvSpPr>
          <p:cNvPr id="195" name="Line 7"/>
          <p:cNvSpPr/>
          <p:nvPr/>
        </p:nvSpPr>
        <p:spPr>
          <a:xfrm>
            <a:off x="2209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 type of graph should I use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 Graph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ot related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r Grap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hasize individual data poi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 Graph vs. Lin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7052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62440" y="3809880"/>
            <a:ext cx="403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is the correct type of gra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01920" y="1712880"/>
            <a:ext cx="63244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s this the correct type of grap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342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onvincing"/>
          <p:cNvPicPr/>
          <p:nvPr/>
        </p:nvPicPr>
        <p:blipFill>
          <a:blip r:embed="rId1"/>
          <a:stretch/>
        </p:blipFill>
        <p:spPr>
          <a:xfrm>
            <a:off x="457200" y="1523880"/>
            <a:ext cx="802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dequate (and inaccurate)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gri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appropriate sc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3902" t="5551" r="3902" b="5551"/>
          <a:stretch/>
        </p:blipFill>
        <p:spPr>
          <a:xfrm>
            <a:off x="3581280" y="990720"/>
            <a:ext cx="44262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hat’s wrong with this graph?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tit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es poorly labeled – unit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 well-gridded for interpre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ear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badexcel"/>
          <p:cNvPicPr/>
          <p:nvPr/>
        </p:nvPicPr>
        <p:blipFill>
          <a:blip r:embed="rId1"/>
          <a:stretch/>
        </p:blipFill>
        <p:spPr>
          <a:xfrm>
            <a:off x="3962520" y="1066680"/>
            <a:ext cx="4638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9:13:08Z</dcterms:created>
  <dc:creator>Cynthia J. Moore</dc:creator>
  <dc:description/>
  <dc:language>en-US</dc:language>
  <cp:lastModifiedBy>Cynthia J. Moore</cp:lastModifiedBy>
  <cp:lastPrinted>2011-04-05T20:02:30Z</cp:lastPrinted>
  <dcterms:modified xsi:type="dcterms:W3CDTF">2011-04-12T18:07:21Z</dcterms:modified>
  <cp:revision>73</cp:revision>
  <dc:subject/>
  <dc:title>Slide 1</dc:title>
</cp:coreProperties>
</file>